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469-0AF4-4588-9A67-AD911ED7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24A-2BA1-44C9-A461-127AD672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ACD-5E48-4620-B00E-AC6B2AE0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6A7-0B94-43BD-9B4B-3F76C122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83C-692A-41B7-9D40-EBA9E728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90E-8160-4470-AD1D-7B45E09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3A1-09E9-4836-AEB4-E5162A60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6F3-6B84-4C0F-AD66-2C8EC222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69F-1F97-4F34-B39D-18478B4C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A0A-13A0-4197-9CEB-0D174F21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A1A-7BF0-4C6F-9554-DB434F05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27D-9B98-4880-8688-6578B5EF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390F-9307-4FE1-B6C8-0C9DB264F052}" type="slidenum">
              <a:rPr b="0" lang="et-E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de.google.com/apis/base/" TargetMode="External"/><Relationship Id="rId2" Type="http://schemas.openxmlformats.org/officeDocument/2006/relationships/hyperlink" Target="http://www.google.com/base/api/demo/html/demo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ylang.com/1" TargetMode="External"/><Relationship Id="rId2" Type="http://schemas.openxmlformats.org/officeDocument/2006/relationships/hyperlink" Target="http://mylang.com/2" TargetMode="External"/><Relationship Id="rId3" Type="http://schemas.openxmlformats.org/officeDocument/2006/relationships/hyperlink" Target="http://mylang.com/2" TargetMode="External"/><Relationship Id="rId4" Type="http://schemas.openxmlformats.org/officeDocument/2006/relationships/hyperlink" Target="http://mylang.com/2" TargetMode="External"/><Relationship Id="rId5" Type="http://schemas.openxmlformats.org/officeDocument/2006/relationships/hyperlink" Target="http://mylang.com/1" TargetMode="External"/><Relationship Id="rId6" Type="http://schemas.openxmlformats.org/officeDocument/2006/relationships/hyperlink" Target="http://mylang.com/1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source_Description_Framework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my.com/beer/1223" TargetMode="External"/><Relationship Id="rId2" Type="http://schemas.openxmlformats.org/officeDocument/2006/relationships/hyperlink" Target="http://beerlang.com/name" TargetMode="External"/><Relationship Id="rId3" Type="http://schemas.openxmlformats.org/officeDocument/2006/relationships/hyperlink" Target="http://my.com/beer/112" TargetMode="External"/><Relationship Id="rId4" Type="http://schemas.openxmlformats.org/officeDocument/2006/relationships/hyperlink" Target="http://my.com/beer/112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perty/value pair r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898989"/>
                </a:solidFill>
                <a:latin typeface="Calibri"/>
              </a:rPr>
              <a:t>ITV00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898989"/>
                </a:solidFill>
                <a:latin typeface="Calibri"/>
              </a:rPr>
              <a:t>T.Tam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Google 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et-E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ode.google.com/apis/bas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t-EE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google.com/base/api/demo/html/demo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Sear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ttp://base.google.com/base/feeds/snipp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maxresults=250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bq=[author : Shakespeare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tructured text markup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Pure syntax: tags, attributes have no predefined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Everybody is allowed to invent their own meaning/usage for 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XML standard rep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Pack information between tag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be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n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Nuia tume&lt;/n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produc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Nuia õllevabrik&lt;/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produc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Porter&lt;/ty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8.90&lt;/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5.4&lt;/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be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714680" y="1855800"/>
            <a:ext cx="55749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9800" indent="-282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</a:t>
            </a: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ducer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gt;Nuia õllevabrik&lt;/</a:t>
            </a: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ducer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2685960" y="2269800"/>
            <a:ext cx="1800" cy="16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032200" y="4041720"/>
            <a:ext cx="10080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tar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561640" y="4114800"/>
            <a:ext cx="8830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n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V="1">
            <a:off x="6094440" y="2293560"/>
            <a:ext cx="1440" cy="16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4275000" y="2282760"/>
            <a:ext cx="1800" cy="16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99888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3"/>
          <p:cNvSpPr/>
          <p:nvPr/>
        </p:nvSpPr>
        <p:spPr>
          <a:xfrm>
            <a:off x="1693800" y="4948200"/>
            <a:ext cx="5886360" cy="341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14396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</a:rPr>
              <a:t>Table data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380880" y="1523880"/>
            <a:ext cx="2741400" cy="1890360"/>
            <a:chOff x="380880" y="1523880"/>
            <a:chExt cx="2741400" cy="1890360"/>
          </a:xfrm>
        </p:grpSpPr>
        <p:grpSp>
          <p:nvGrpSpPr>
            <p:cNvPr id="79" name="Group 5"/>
            <p:cNvGrpSpPr/>
            <p:nvPr/>
          </p:nvGrpSpPr>
          <p:grpSpPr>
            <a:xfrm>
              <a:off x="2207520" y="2539800"/>
              <a:ext cx="913320" cy="435600"/>
              <a:chOff x="2207520" y="2539800"/>
              <a:chExt cx="913320" cy="435600"/>
            </a:xfrm>
          </p:grpSpPr>
          <p:sp>
            <p:nvSpPr>
              <p:cNvPr id="80" name="AutoShape 6"/>
              <p:cNvSpPr/>
              <p:nvPr/>
            </p:nvSpPr>
            <p:spPr>
              <a:xfrm>
                <a:off x="2207520" y="25398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7"/>
              <p:cNvSpPr/>
              <p:nvPr/>
            </p:nvSpPr>
            <p:spPr>
              <a:xfrm>
                <a:off x="2207520" y="25398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8"/>
            <p:cNvGrpSpPr/>
            <p:nvPr/>
          </p:nvGrpSpPr>
          <p:grpSpPr>
            <a:xfrm>
              <a:off x="1294200" y="2539800"/>
              <a:ext cx="913320" cy="435600"/>
              <a:chOff x="1294200" y="2539800"/>
              <a:chExt cx="913320" cy="435600"/>
            </a:xfrm>
          </p:grpSpPr>
          <p:sp>
            <p:nvSpPr>
              <p:cNvPr id="83" name="AutoShape 9"/>
              <p:cNvSpPr/>
              <p:nvPr/>
            </p:nvSpPr>
            <p:spPr>
              <a:xfrm>
                <a:off x="1294200" y="25398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10"/>
              <p:cNvSpPr/>
              <p:nvPr/>
            </p:nvSpPr>
            <p:spPr>
              <a:xfrm>
                <a:off x="1294200" y="25398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1"/>
            <p:cNvGrpSpPr/>
            <p:nvPr/>
          </p:nvGrpSpPr>
          <p:grpSpPr>
            <a:xfrm>
              <a:off x="380880" y="2539800"/>
              <a:ext cx="913320" cy="435600"/>
              <a:chOff x="380880" y="2539800"/>
              <a:chExt cx="913320" cy="435600"/>
            </a:xfrm>
          </p:grpSpPr>
          <p:sp>
            <p:nvSpPr>
              <p:cNvPr id="86" name="AutoShape 12"/>
              <p:cNvSpPr/>
              <p:nvPr/>
            </p:nvSpPr>
            <p:spPr>
              <a:xfrm>
                <a:off x="380880" y="25398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3"/>
              <p:cNvSpPr/>
              <p:nvPr/>
            </p:nvSpPr>
            <p:spPr>
              <a:xfrm>
                <a:off x="380880" y="25398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14"/>
            <p:cNvGrpSpPr/>
            <p:nvPr/>
          </p:nvGrpSpPr>
          <p:grpSpPr>
            <a:xfrm>
              <a:off x="2207520" y="2977200"/>
              <a:ext cx="913320" cy="435600"/>
              <a:chOff x="2207520" y="2977200"/>
              <a:chExt cx="913320" cy="435600"/>
            </a:xfrm>
          </p:grpSpPr>
          <p:sp>
            <p:nvSpPr>
              <p:cNvPr id="89" name="AutoShape 15"/>
              <p:cNvSpPr/>
              <p:nvPr/>
            </p:nvSpPr>
            <p:spPr>
              <a:xfrm>
                <a:off x="2207520" y="29772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16"/>
              <p:cNvSpPr/>
              <p:nvPr/>
            </p:nvSpPr>
            <p:spPr>
              <a:xfrm>
                <a:off x="2207520" y="29772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17"/>
            <p:cNvGrpSpPr/>
            <p:nvPr/>
          </p:nvGrpSpPr>
          <p:grpSpPr>
            <a:xfrm>
              <a:off x="1294200" y="2977200"/>
              <a:ext cx="913320" cy="435600"/>
              <a:chOff x="1294200" y="2977200"/>
              <a:chExt cx="913320" cy="435600"/>
            </a:xfrm>
          </p:grpSpPr>
          <p:sp>
            <p:nvSpPr>
              <p:cNvPr id="92" name="AutoShape 18"/>
              <p:cNvSpPr/>
              <p:nvPr/>
            </p:nvSpPr>
            <p:spPr>
              <a:xfrm>
                <a:off x="1294200" y="29772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9"/>
              <p:cNvSpPr/>
              <p:nvPr/>
            </p:nvSpPr>
            <p:spPr>
              <a:xfrm>
                <a:off x="1294200" y="29772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0"/>
            <p:cNvGrpSpPr/>
            <p:nvPr/>
          </p:nvGrpSpPr>
          <p:grpSpPr>
            <a:xfrm>
              <a:off x="380880" y="2977200"/>
              <a:ext cx="913320" cy="435600"/>
              <a:chOff x="380880" y="2977200"/>
              <a:chExt cx="913320" cy="435600"/>
            </a:xfrm>
          </p:grpSpPr>
          <p:sp>
            <p:nvSpPr>
              <p:cNvPr id="95" name="AutoShape 21"/>
              <p:cNvSpPr/>
              <p:nvPr/>
            </p:nvSpPr>
            <p:spPr>
              <a:xfrm>
                <a:off x="380880" y="29772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22"/>
              <p:cNvSpPr/>
              <p:nvPr/>
            </p:nvSpPr>
            <p:spPr>
              <a:xfrm>
                <a:off x="380880" y="29772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23"/>
            <p:cNvGrpSpPr/>
            <p:nvPr/>
          </p:nvGrpSpPr>
          <p:grpSpPr>
            <a:xfrm>
              <a:off x="2207520" y="2032560"/>
              <a:ext cx="913320" cy="508320"/>
              <a:chOff x="2207520" y="2032560"/>
              <a:chExt cx="913320" cy="508320"/>
            </a:xfrm>
          </p:grpSpPr>
          <p:sp>
            <p:nvSpPr>
              <p:cNvPr id="98" name="AutoShape 24"/>
              <p:cNvSpPr/>
              <p:nvPr/>
            </p:nvSpPr>
            <p:spPr>
              <a:xfrm>
                <a:off x="2207520" y="2032560"/>
                <a:ext cx="913320" cy="50832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25"/>
              <p:cNvSpPr/>
              <p:nvPr/>
            </p:nvSpPr>
            <p:spPr>
              <a:xfrm>
                <a:off x="2207520" y="203256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6"/>
            <p:cNvGrpSpPr/>
            <p:nvPr/>
          </p:nvGrpSpPr>
          <p:grpSpPr>
            <a:xfrm>
              <a:off x="1294200" y="2032560"/>
              <a:ext cx="913320" cy="508320"/>
              <a:chOff x="1294200" y="2032560"/>
              <a:chExt cx="913320" cy="508320"/>
            </a:xfrm>
          </p:grpSpPr>
          <p:sp>
            <p:nvSpPr>
              <p:cNvPr id="101" name="AutoShape 27"/>
              <p:cNvSpPr/>
              <p:nvPr/>
            </p:nvSpPr>
            <p:spPr>
              <a:xfrm>
                <a:off x="1294200" y="2032560"/>
                <a:ext cx="913320" cy="50832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28"/>
              <p:cNvSpPr/>
              <p:nvPr/>
            </p:nvSpPr>
            <p:spPr>
              <a:xfrm>
                <a:off x="1294200" y="203256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9"/>
            <p:cNvGrpSpPr/>
            <p:nvPr/>
          </p:nvGrpSpPr>
          <p:grpSpPr>
            <a:xfrm>
              <a:off x="380880" y="2032560"/>
              <a:ext cx="913320" cy="508320"/>
              <a:chOff x="380880" y="2032560"/>
              <a:chExt cx="913320" cy="508320"/>
            </a:xfrm>
          </p:grpSpPr>
          <p:sp>
            <p:nvSpPr>
              <p:cNvPr id="104" name="AutoShape 30"/>
              <p:cNvSpPr/>
              <p:nvPr/>
            </p:nvSpPr>
            <p:spPr>
              <a:xfrm>
                <a:off x="380880" y="2032560"/>
                <a:ext cx="913320" cy="50832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31"/>
              <p:cNvSpPr/>
              <p:nvPr/>
            </p:nvSpPr>
            <p:spPr>
              <a:xfrm>
                <a:off x="380880" y="203256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32"/>
            <p:cNvGrpSpPr/>
            <p:nvPr/>
          </p:nvGrpSpPr>
          <p:grpSpPr>
            <a:xfrm>
              <a:off x="2207520" y="1523880"/>
              <a:ext cx="913320" cy="508680"/>
              <a:chOff x="2207520" y="1523880"/>
              <a:chExt cx="913320" cy="508680"/>
            </a:xfrm>
          </p:grpSpPr>
          <p:sp>
            <p:nvSpPr>
              <p:cNvPr id="107" name="AutoShape 33"/>
              <p:cNvSpPr/>
              <p:nvPr/>
            </p:nvSpPr>
            <p:spPr>
              <a:xfrm>
                <a:off x="2207520" y="1523880"/>
                <a:ext cx="913320" cy="50868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34"/>
              <p:cNvSpPr/>
              <p:nvPr/>
            </p:nvSpPr>
            <p:spPr>
              <a:xfrm>
                <a:off x="2207520" y="1523880"/>
                <a:ext cx="913320" cy="36000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80"/>
                    </a:solidFill>
                    <a:latin typeface="Bitstream Vera San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5"/>
            <p:cNvGrpSpPr/>
            <p:nvPr/>
          </p:nvGrpSpPr>
          <p:grpSpPr>
            <a:xfrm>
              <a:off x="1294200" y="1523880"/>
              <a:ext cx="913320" cy="508680"/>
              <a:chOff x="1294200" y="1523880"/>
              <a:chExt cx="913320" cy="508680"/>
            </a:xfrm>
          </p:grpSpPr>
          <p:sp>
            <p:nvSpPr>
              <p:cNvPr id="110" name="AutoShape 36"/>
              <p:cNvSpPr/>
              <p:nvPr/>
            </p:nvSpPr>
            <p:spPr>
              <a:xfrm>
                <a:off x="1294200" y="1523880"/>
                <a:ext cx="913320" cy="50868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37"/>
              <p:cNvSpPr/>
              <p:nvPr/>
            </p:nvSpPr>
            <p:spPr>
              <a:xfrm>
                <a:off x="1294200" y="1523880"/>
                <a:ext cx="913320" cy="36000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80"/>
                    </a:solidFill>
                    <a:latin typeface="Bitstream Vera San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38"/>
            <p:cNvGrpSpPr/>
            <p:nvPr/>
          </p:nvGrpSpPr>
          <p:grpSpPr>
            <a:xfrm>
              <a:off x="380880" y="1523880"/>
              <a:ext cx="913320" cy="508680"/>
              <a:chOff x="380880" y="1523880"/>
              <a:chExt cx="913320" cy="508680"/>
            </a:xfrm>
          </p:grpSpPr>
          <p:sp>
            <p:nvSpPr>
              <p:cNvPr id="113" name="AutoShape 39"/>
              <p:cNvSpPr/>
              <p:nvPr/>
            </p:nvSpPr>
            <p:spPr>
              <a:xfrm>
                <a:off x="380880" y="1523880"/>
                <a:ext cx="913320" cy="50868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40"/>
              <p:cNvSpPr/>
              <p:nvPr/>
            </p:nvSpPr>
            <p:spPr>
              <a:xfrm>
                <a:off x="380880" y="1523880"/>
                <a:ext cx="913320" cy="36000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80"/>
                    </a:solidFill>
                    <a:latin typeface="Bitstream Vera San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Line 41"/>
            <p:cNvSpPr/>
            <p:nvPr/>
          </p:nvSpPr>
          <p:spPr>
            <a:xfrm>
              <a:off x="380880" y="1523880"/>
              <a:ext cx="2739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2"/>
            <p:cNvSpPr/>
            <p:nvPr/>
          </p:nvSpPr>
          <p:spPr>
            <a:xfrm>
              <a:off x="380880" y="2032560"/>
              <a:ext cx="2739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3"/>
            <p:cNvSpPr/>
            <p:nvPr/>
          </p:nvSpPr>
          <p:spPr>
            <a:xfrm>
              <a:off x="380880" y="2539800"/>
              <a:ext cx="2739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4"/>
            <p:cNvSpPr/>
            <p:nvPr/>
          </p:nvSpPr>
          <p:spPr>
            <a:xfrm>
              <a:off x="380880" y="3413160"/>
              <a:ext cx="2739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5"/>
            <p:cNvSpPr/>
            <p:nvPr/>
          </p:nvSpPr>
          <p:spPr>
            <a:xfrm>
              <a:off x="380880" y="1523880"/>
              <a:ext cx="144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6"/>
            <p:cNvSpPr/>
            <p:nvPr/>
          </p:nvSpPr>
          <p:spPr>
            <a:xfrm>
              <a:off x="1294200" y="1523880"/>
              <a:ext cx="1440" cy="18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7"/>
            <p:cNvSpPr/>
            <p:nvPr/>
          </p:nvSpPr>
          <p:spPr>
            <a:xfrm>
              <a:off x="2207520" y="1523880"/>
              <a:ext cx="1440" cy="18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8"/>
            <p:cNvSpPr/>
            <p:nvPr/>
          </p:nvSpPr>
          <p:spPr>
            <a:xfrm>
              <a:off x="3120840" y="1523880"/>
              <a:ext cx="144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9"/>
            <p:cNvSpPr/>
            <p:nvPr/>
          </p:nvSpPr>
          <p:spPr>
            <a:xfrm>
              <a:off x="380880" y="2977200"/>
              <a:ext cx="2739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50"/>
          <p:cNvSpPr/>
          <p:nvPr/>
        </p:nvSpPr>
        <p:spPr>
          <a:xfrm>
            <a:off x="819000" y="819000"/>
            <a:ext cx="478080" cy="579600"/>
          </a:xfrm>
          <a:custGeom>
            <a:avLst/>
            <a:gdLst>
              <a:gd name="textAreaLeft" fmla="*/ 360 w 478080"/>
              <a:gd name="textAreaRight" fmla="*/ 477720 w 478080"/>
              <a:gd name="textAreaTop" fmla="*/ 360 h 579600"/>
              <a:gd name="textAreaBottom" fmla="*/ 579240 h 579600"/>
            </a:gdLst>
            <a:ahLst/>
            <a:rect l="textAreaLeft" t="textAreaTop" r="textAreaRight" b="textAreaBottom"/>
            <a:pathLst>
              <a:path w="21600" h="26183">
                <a:moveTo>
                  <a:pt x="72" y="0"/>
                </a:moveTo>
                <a:arcTo wR="72" hR="72" stAng="16200000" swAng="-5400000"/>
                <a:lnTo>
                  <a:pt x="0" y="26111"/>
                </a:lnTo>
                <a:arcTo wR="72" hR="72" stAng="10800000" swAng="-5400000"/>
                <a:lnTo>
                  <a:pt x="21528" y="26183"/>
                </a:lnTo>
                <a:arcTo wR="72" hR="72" stAng="5400000" swAng="-5400000"/>
                <a:lnTo>
                  <a:pt x="21600" y="72"/>
                </a:lnTo>
                <a:arcTo wR="72" hR="7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1"/>
          <p:cNvGrpSpPr/>
          <p:nvPr/>
        </p:nvGrpSpPr>
        <p:grpSpPr>
          <a:xfrm>
            <a:off x="4572000" y="990720"/>
            <a:ext cx="4265640" cy="5256000"/>
            <a:chOff x="4572000" y="990720"/>
            <a:chExt cx="4265640" cy="5256000"/>
          </a:xfrm>
        </p:grpSpPr>
        <p:sp>
          <p:nvSpPr>
            <p:cNvPr id="126" name="AutoShape 52"/>
            <p:cNvSpPr/>
            <p:nvPr/>
          </p:nvSpPr>
          <p:spPr>
            <a:xfrm>
              <a:off x="4572000" y="990720"/>
              <a:ext cx="4265640" cy="5256000"/>
            </a:xfrm>
            <a:custGeom>
              <a:avLst/>
              <a:gdLst>
                <a:gd name="textAreaLeft" fmla="*/ 360 w 4265640"/>
                <a:gd name="textAreaRight" fmla="*/ 4265280 w 4265640"/>
                <a:gd name="textAreaTop" fmla="*/ 360 h 5256000"/>
                <a:gd name="textAreaBottom" fmla="*/ 5255640 h 5256000"/>
              </a:gdLst>
              <a:ahLst/>
              <a:rect l="textAreaLeft" t="textAreaTop" r="textAreaRight" b="textAreaBottom"/>
              <a:pathLst>
                <a:path w="21600" h="26614">
                  <a:moveTo>
                    <a:pt x="8" y="0"/>
                  </a:moveTo>
                  <a:arcTo wR="8" hR="8" stAng="16200000" swAng="-5400000"/>
                  <a:lnTo>
                    <a:pt x="0" y="26606"/>
                  </a:lnTo>
                  <a:arcTo wR="8" hR="8" stAng="10800000" swAng="-5400000"/>
                  <a:lnTo>
                    <a:pt x="21592" y="26614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solidFill>
              <a:srgbClr val="e6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3"/>
            <p:cNvSpPr/>
            <p:nvPr/>
          </p:nvSpPr>
          <p:spPr>
            <a:xfrm>
              <a:off x="4572000" y="990720"/>
              <a:ext cx="4265640" cy="4696560"/>
            </a:xfrm>
            <a:prstGeom prst="rect">
              <a:avLst/>
            </a:prstGeom>
            <a:solidFill>
              <a:srgbClr val="e6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R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tuple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A&gt;a1&lt;/A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B&gt;b1&lt;/B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C&gt;c1&lt;/C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tuple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tuple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A&gt;a2&lt;/A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B&gt;b2&lt;/B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C&gt;c2&lt;/C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tuple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   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R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54"/>
          <p:cNvSpPr/>
          <p:nvPr/>
        </p:nvSpPr>
        <p:spPr>
          <a:xfrm>
            <a:off x="3429000" y="2362320"/>
            <a:ext cx="83808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5"/>
          <p:cNvGrpSpPr/>
          <p:nvPr/>
        </p:nvGrpSpPr>
        <p:grpSpPr>
          <a:xfrm>
            <a:off x="97200" y="3691080"/>
            <a:ext cx="3813480" cy="2581200"/>
            <a:chOff x="97200" y="3691080"/>
            <a:chExt cx="3813480" cy="2581200"/>
          </a:xfrm>
        </p:grpSpPr>
        <p:sp>
          <p:nvSpPr>
            <p:cNvPr id="130" name="AutoShape 56"/>
            <p:cNvSpPr/>
            <p:nvPr/>
          </p:nvSpPr>
          <p:spPr>
            <a:xfrm>
              <a:off x="1726560" y="3691080"/>
              <a:ext cx="402480" cy="582120"/>
            </a:xfrm>
            <a:custGeom>
              <a:avLst/>
              <a:gdLst>
                <a:gd name="textAreaLeft" fmla="*/ 360 w 402480"/>
                <a:gd name="textAreaRight" fmla="*/ 402120 w 402480"/>
                <a:gd name="textAreaTop" fmla="*/ 360 h 582120"/>
                <a:gd name="textAreaBottom" fmla="*/ 581760 h 582120"/>
              </a:gdLst>
              <a:ahLst/>
              <a:rect l="textAreaLeft" t="textAreaTop" r="textAreaRight" b="textAreaBottom"/>
              <a:pathLst>
                <a:path w="21600" h="31232">
                  <a:moveTo>
                    <a:pt x="75" y="0"/>
                  </a:moveTo>
                  <a:arcTo wR="75" hR="75" stAng="16200000" swAng="-5400000"/>
                  <a:lnTo>
                    <a:pt x="0" y="31157"/>
                  </a:lnTo>
                  <a:arcTo wR="75" hR="75" stAng="10800000" swAng="-5400000"/>
                  <a:lnTo>
                    <a:pt x="21525" y="31232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57"/>
            <p:cNvGrpSpPr/>
            <p:nvPr/>
          </p:nvGrpSpPr>
          <p:grpSpPr>
            <a:xfrm>
              <a:off x="97200" y="4730040"/>
              <a:ext cx="1391400" cy="1524960"/>
              <a:chOff x="97200" y="4730040"/>
              <a:chExt cx="1391400" cy="1524960"/>
            </a:xfrm>
          </p:grpSpPr>
          <p:sp>
            <p:nvSpPr>
              <p:cNvPr id="132" name="AutoShape 58"/>
              <p:cNvSpPr/>
              <p:nvPr/>
            </p:nvSpPr>
            <p:spPr>
              <a:xfrm>
                <a:off x="465840" y="4730040"/>
                <a:ext cx="7192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alibri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59"/>
              <p:cNvSpPr/>
              <p:nvPr/>
            </p:nvSpPr>
            <p:spPr>
              <a:xfrm>
                <a:off x="209160" y="5523120"/>
                <a:ext cx="329400" cy="399600"/>
              </a:xfrm>
              <a:custGeom>
                <a:avLst/>
                <a:gdLst>
                  <a:gd name="textAreaLeft" fmla="*/ 360 w 329400"/>
                  <a:gd name="textAreaRight" fmla="*/ 329040 w 32940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198">
                    <a:moveTo>
                      <a:pt x="93" y="0"/>
                    </a:moveTo>
                    <a:arcTo wR="93" hR="93" stAng="16200000" swAng="-5400000"/>
                    <a:lnTo>
                      <a:pt x="0" y="26105"/>
                    </a:lnTo>
                    <a:arcTo wR="93" hR="93" stAng="10800000" swAng="-5400000"/>
                    <a:lnTo>
                      <a:pt x="21507" y="26198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60"/>
              <p:cNvSpPr/>
              <p:nvPr/>
            </p:nvSpPr>
            <p:spPr>
              <a:xfrm>
                <a:off x="573120" y="5523120"/>
                <a:ext cx="320040" cy="399600"/>
              </a:xfrm>
              <a:custGeom>
                <a:avLst/>
                <a:gdLst>
                  <a:gd name="textAreaLeft" fmla="*/ 360 w 320040"/>
                  <a:gd name="textAreaRight" fmla="*/ 319680 w 3200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964">
                    <a:moveTo>
                      <a:pt x="97" y="0"/>
                    </a:moveTo>
                    <a:arcTo wR="97" hR="97" stAng="16200000" swAng="-5400000"/>
                    <a:lnTo>
                      <a:pt x="0" y="26867"/>
                    </a:lnTo>
                    <a:arcTo wR="97" hR="97" stAng="10800000" swAng="-5400000"/>
                    <a:lnTo>
                      <a:pt x="21503" y="26964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61"/>
              <p:cNvSpPr/>
              <p:nvPr/>
            </p:nvSpPr>
            <p:spPr>
              <a:xfrm>
                <a:off x="1031400" y="5523120"/>
                <a:ext cx="317160" cy="399600"/>
              </a:xfrm>
              <a:custGeom>
                <a:avLst/>
                <a:gdLst>
                  <a:gd name="textAreaLeft" fmla="*/ 360 w 317160"/>
                  <a:gd name="textAreaRight" fmla="*/ 316800 w 3171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7208">
                    <a:moveTo>
                      <a:pt x="97" y="0"/>
                    </a:moveTo>
                    <a:arcTo wR="97" hR="97" stAng="16200000" swAng="-5400000"/>
                    <a:lnTo>
                      <a:pt x="0" y="27111"/>
                    </a:lnTo>
                    <a:arcTo wR="97" hR="97" stAng="10800000" swAng="-5400000"/>
                    <a:lnTo>
                      <a:pt x="21503" y="27208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2"/>
              <p:cNvSpPr/>
              <p:nvPr/>
            </p:nvSpPr>
            <p:spPr>
              <a:xfrm flipV="1">
                <a:off x="404280" y="5186520"/>
                <a:ext cx="304560" cy="35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63"/>
              <p:cNvSpPr/>
              <p:nvPr/>
            </p:nvSpPr>
            <p:spPr>
              <a:xfrm>
                <a:off x="708840" y="5188320"/>
                <a:ext cx="144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4"/>
              <p:cNvSpPr/>
              <p:nvPr/>
            </p:nvSpPr>
            <p:spPr>
              <a:xfrm>
                <a:off x="708840" y="5188320"/>
                <a:ext cx="38016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65"/>
              <p:cNvSpPr/>
              <p:nvPr/>
            </p:nvSpPr>
            <p:spPr>
              <a:xfrm>
                <a:off x="97200" y="5894280"/>
                <a:ext cx="1391400" cy="3607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1  b1   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66"/>
            <p:cNvGrpSpPr/>
            <p:nvPr/>
          </p:nvGrpSpPr>
          <p:grpSpPr>
            <a:xfrm>
              <a:off x="1223280" y="4749120"/>
              <a:ext cx="1391400" cy="1523160"/>
              <a:chOff x="1223280" y="4749120"/>
              <a:chExt cx="1391400" cy="1523160"/>
            </a:xfrm>
          </p:grpSpPr>
          <p:sp>
            <p:nvSpPr>
              <p:cNvPr id="141" name="AutoShape 67"/>
              <p:cNvSpPr/>
              <p:nvPr/>
            </p:nvSpPr>
            <p:spPr>
              <a:xfrm>
                <a:off x="1591920" y="4749120"/>
                <a:ext cx="7192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alibri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68"/>
              <p:cNvSpPr/>
              <p:nvPr/>
            </p:nvSpPr>
            <p:spPr>
              <a:xfrm>
                <a:off x="1335240" y="5542200"/>
                <a:ext cx="329400" cy="399600"/>
              </a:xfrm>
              <a:custGeom>
                <a:avLst/>
                <a:gdLst>
                  <a:gd name="textAreaLeft" fmla="*/ 360 w 329400"/>
                  <a:gd name="textAreaRight" fmla="*/ 329040 w 32940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198">
                    <a:moveTo>
                      <a:pt x="93" y="0"/>
                    </a:moveTo>
                    <a:arcTo wR="93" hR="93" stAng="16200000" swAng="-5400000"/>
                    <a:lnTo>
                      <a:pt x="0" y="26105"/>
                    </a:lnTo>
                    <a:arcTo wR="93" hR="93" stAng="10800000" swAng="-5400000"/>
                    <a:lnTo>
                      <a:pt x="21507" y="26198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69"/>
              <p:cNvSpPr/>
              <p:nvPr/>
            </p:nvSpPr>
            <p:spPr>
              <a:xfrm>
                <a:off x="1700640" y="5542200"/>
                <a:ext cx="320040" cy="399600"/>
              </a:xfrm>
              <a:custGeom>
                <a:avLst/>
                <a:gdLst>
                  <a:gd name="textAreaLeft" fmla="*/ 360 w 320040"/>
                  <a:gd name="textAreaRight" fmla="*/ 319680 w 3200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964">
                    <a:moveTo>
                      <a:pt x="97" y="0"/>
                    </a:moveTo>
                    <a:arcTo wR="97" hR="97" stAng="16200000" swAng="-5400000"/>
                    <a:lnTo>
                      <a:pt x="0" y="26867"/>
                    </a:lnTo>
                    <a:arcTo wR="97" hR="97" stAng="10800000" swAng="-5400000"/>
                    <a:lnTo>
                      <a:pt x="21503" y="26964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70"/>
              <p:cNvSpPr/>
              <p:nvPr/>
            </p:nvSpPr>
            <p:spPr>
              <a:xfrm>
                <a:off x="2158920" y="5542200"/>
                <a:ext cx="317160" cy="399600"/>
              </a:xfrm>
              <a:custGeom>
                <a:avLst/>
                <a:gdLst>
                  <a:gd name="textAreaLeft" fmla="*/ 360 w 317160"/>
                  <a:gd name="textAreaRight" fmla="*/ 316800 w 3171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7208">
                    <a:moveTo>
                      <a:pt x="97" y="0"/>
                    </a:moveTo>
                    <a:arcTo wR="97" hR="97" stAng="16200000" swAng="-5400000"/>
                    <a:lnTo>
                      <a:pt x="0" y="27111"/>
                    </a:lnTo>
                    <a:arcTo wR="97" hR="97" stAng="10800000" swAng="-5400000"/>
                    <a:lnTo>
                      <a:pt x="21503" y="27208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71"/>
              <p:cNvSpPr/>
              <p:nvPr/>
            </p:nvSpPr>
            <p:spPr>
              <a:xfrm flipV="1">
                <a:off x="1530360" y="5205600"/>
                <a:ext cx="304560" cy="35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72"/>
              <p:cNvSpPr/>
              <p:nvPr/>
            </p:nvSpPr>
            <p:spPr>
              <a:xfrm>
                <a:off x="1834920" y="5207400"/>
                <a:ext cx="108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3"/>
              <p:cNvSpPr/>
              <p:nvPr/>
            </p:nvSpPr>
            <p:spPr>
              <a:xfrm>
                <a:off x="1834920" y="5207400"/>
                <a:ext cx="38016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74"/>
              <p:cNvSpPr/>
              <p:nvPr/>
            </p:nvSpPr>
            <p:spPr>
              <a:xfrm>
                <a:off x="1223280" y="5911560"/>
                <a:ext cx="1391400" cy="36072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2  b2   c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75"/>
            <p:cNvGrpSpPr/>
            <p:nvPr/>
          </p:nvGrpSpPr>
          <p:grpSpPr>
            <a:xfrm>
              <a:off x="2519280" y="4749120"/>
              <a:ext cx="1391400" cy="1523160"/>
              <a:chOff x="2519280" y="4749120"/>
              <a:chExt cx="1391400" cy="1523160"/>
            </a:xfrm>
          </p:grpSpPr>
          <p:sp>
            <p:nvSpPr>
              <p:cNvPr id="150" name="AutoShape 76"/>
              <p:cNvSpPr/>
              <p:nvPr/>
            </p:nvSpPr>
            <p:spPr>
              <a:xfrm>
                <a:off x="2887920" y="4749120"/>
                <a:ext cx="7192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alibri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77"/>
              <p:cNvSpPr/>
              <p:nvPr/>
            </p:nvSpPr>
            <p:spPr>
              <a:xfrm>
                <a:off x="2629440" y="5542200"/>
                <a:ext cx="329400" cy="399600"/>
              </a:xfrm>
              <a:custGeom>
                <a:avLst/>
                <a:gdLst>
                  <a:gd name="textAreaLeft" fmla="*/ 360 w 329400"/>
                  <a:gd name="textAreaRight" fmla="*/ 329040 w 32940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198">
                    <a:moveTo>
                      <a:pt x="93" y="0"/>
                    </a:moveTo>
                    <a:arcTo wR="93" hR="93" stAng="16200000" swAng="-5400000"/>
                    <a:lnTo>
                      <a:pt x="0" y="26105"/>
                    </a:lnTo>
                    <a:arcTo wR="93" hR="93" stAng="10800000" swAng="-5400000"/>
                    <a:lnTo>
                      <a:pt x="21507" y="26198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78"/>
              <p:cNvSpPr/>
              <p:nvPr/>
            </p:nvSpPr>
            <p:spPr>
              <a:xfrm>
                <a:off x="2994840" y="5542200"/>
                <a:ext cx="320040" cy="399600"/>
              </a:xfrm>
              <a:custGeom>
                <a:avLst/>
                <a:gdLst>
                  <a:gd name="textAreaLeft" fmla="*/ 360 w 320040"/>
                  <a:gd name="textAreaRight" fmla="*/ 319680 w 3200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964">
                    <a:moveTo>
                      <a:pt x="97" y="0"/>
                    </a:moveTo>
                    <a:arcTo wR="97" hR="97" stAng="16200000" swAng="-5400000"/>
                    <a:lnTo>
                      <a:pt x="0" y="26867"/>
                    </a:lnTo>
                    <a:arcTo wR="97" hR="97" stAng="10800000" swAng="-5400000"/>
                    <a:lnTo>
                      <a:pt x="21503" y="26964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utoShape 79"/>
              <p:cNvSpPr/>
              <p:nvPr/>
            </p:nvSpPr>
            <p:spPr>
              <a:xfrm>
                <a:off x="3451680" y="5542200"/>
                <a:ext cx="317160" cy="399600"/>
              </a:xfrm>
              <a:custGeom>
                <a:avLst/>
                <a:gdLst>
                  <a:gd name="textAreaLeft" fmla="*/ 360 w 317160"/>
                  <a:gd name="textAreaRight" fmla="*/ 316800 w 3171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7208">
                    <a:moveTo>
                      <a:pt x="97" y="0"/>
                    </a:moveTo>
                    <a:arcTo wR="97" hR="97" stAng="16200000" swAng="-5400000"/>
                    <a:lnTo>
                      <a:pt x="0" y="27111"/>
                    </a:lnTo>
                    <a:arcTo wR="97" hR="97" stAng="10800000" swAng="-5400000"/>
                    <a:lnTo>
                      <a:pt x="21503" y="27208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80"/>
              <p:cNvSpPr/>
              <p:nvPr/>
            </p:nvSpPr>
            <p:spPr>
              <a:xfrm flipV="1">
                <a:off x="2826360" y="5205600"/>
                <a:ext cx="304560" cy="35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81"/>
              <p:cNvSpPr/>
              <p:nvPr/>
            </p:nvSpPr>
            <p:spPr>
              <a:xfrm>
                <a:off x="3130920" y="5207400"/>
                <a:ext cx="108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82"/>
              <p:cNvSpPr/>
              <p:nvPr/>
            </p:nvSpPr>
            <p:spPr>
              <a:xfrm>
                <a:off x="3130920" y="5207400"/>
                <a:ext cx="38016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83"/>
              <p:cNvSpPr/>
              <p:nvPr/>
            </p:nvSpPr>
            <p:spPr>
              <a:xfrm>
                <a:off x="2519280" y="5911560"/>
                <a:ext cx="1391400" cy="36072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3  b3   c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Line 84"/>
            <p:cNvSpPr/>
            <p:nvPr/>
          </p:nvSpPr>
          <p:spPr>
            <a:xfrm>
              <a:off x="1850760" y="4308120"/>
              <a:ext cx="144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5"/>
            <p:cNvSpPr/>
            <p:nvPr/>
          </p:nvSpPr>
          <p:spPr>
            <a:xfrm flipH="1">
              <a:off x="859680" y="4308120"/>
              <a:ext cx="99288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6"/>
            <p:cNvSpPr/>
            <p:nvPr/>
          </p:nvSpPr>
          <p:spPr>
            <a:xfrm>
              <a:off x="1850760" y="4308120"/>
              <a:ext cx="129384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Freeform 87"/>
          <p:cNvSpPr/>
          <p:nvPr/>
        </p:nvSpPr>
        <p:spPr>
          <a:xfrm>
            <a:off x="3352680" y="4114800"/>
            <a:ext cx="8384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eep nesting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ylang.com/1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name     </a:t>
            </a: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ylang.com/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mylang.com/2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xx:stringvalue  “Nuia dark”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mylang.com/2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lang  “est”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ylang.com/1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name     “Nuia dark”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mylang.com/1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producer      http://mylang.com/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be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n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ame lang=“est”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Nuia tume&lt;/n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n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ame lang=“eng”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Nuia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dar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/n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produc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&lt;name&gt;Nuia õllevabrik&lt;/na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&lt;address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&lt;city&gt;Nuia&lt;/city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&lt;street&gt;Karu&lt;/street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&lt;/address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/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produc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Porter&lt;/ty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8.90&lt;/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5.4&lt;/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be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/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</a:rPr>
              <a:t>Association-list style repres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Lisp syntax with named slots (association list) exampl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[‘asas’ ,‘asasa’]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{‘type’: “Porter”, ‘name’: “Nuia tume”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Item[‘name’]=“Nuia tume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Item[‘type’]=“Porter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ata={‘beer’: ( {‘type’: (“Porter”)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                   ‘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name’: (“Nuia tume”, “Nuia dark”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                   ’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producer’: ({name: (‘Nuia Õllevabrik)}}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)  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(beer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(n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ame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“Nuia tume”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ame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“Nuia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ark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”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producer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(n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“Nuia õllevabrik”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ress (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city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“Nuia”) (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street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Karu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”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ty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orter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8.90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5.4)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eXtensible Markup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XML 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Struktureeritud teksti esitamise formaa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XML standard ütleb, kuidas teksti struktuuri märgistad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Üllatavalt lihtn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Väga levinud ja ei ilmuta kadumise märke: vastupid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XML ei o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Programmeerimiskee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Mida intelligentset või automaatse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Imevahen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Kasutu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838080" y="380880"/>
            <a:ext cx="7765920" cy="300240"/>
            <a:chOff x="838080" y="380880"/>
            <a:chExt cx="7765920" cy="300240"/>
          </a:xfrm>
        </p:grpSpPr>
        <p:sp>
          <p:nvSpPr>
            <p:cNvPr id="169" name="Line 4"/>
            <p:cNvSpPr/>
            <p:nvPr/>
          </p:nvSpPr>
          <p:spPr>
            <a:xfrm>
              <a:off x="838080" y="679680"/>
              <a:ext cx="776484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 flipV="1">
              <a:off x="8602920" y="380880"/>
              <a:ext cx="1080" cy="3002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XML syntax: main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Data betwee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ag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&lt;n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Nuia õllevabrik&lt;/n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horthand for empty ta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     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inst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/&gt;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ame as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inst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inst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Data can be presented also as attribute: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currenc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=”EEK”&gt;9.8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Man same-name tags allowed one after anoth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inst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odu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1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odu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odu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2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odu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inst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One attribute cannot occur twice in one ta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Wron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currenc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=”EEK”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currenc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=”E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UR”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9.8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igh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currenc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=”EEK”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tax=“0.18”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9.8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XML format main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very tag must be clo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XML f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l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“&l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og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 Pontu”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ncorr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ag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 not criss-cros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og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&l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Miisu&lt;/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og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&lt;/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ncorr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K to put tags “between”  tex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&lt;b&g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lu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lt;/b&gt;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lt;/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fault invisibl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DATA ta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s around text snippets like “big”, “blue”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ssociation l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google 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D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XM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nversions and relations between RDF, XML, log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XML format main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&amp;str; macr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ncoding  utf-8      ä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iso-885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TD define macros like &amp;auml;   &amp;tanel;=“Tanel Tammet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XML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file must have exactly one root ta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Incorrect fi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koer</a:t>
            </a: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 lang=“asass”  lang=“eng”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gt;P</a:t>
            </a: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 &amp;lt; &amp;gt; &amp;apos;  &amp;auml;  ä 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ontu&lt;/koer&gt;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koer&gt;Pauka&lt;/koer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Correct fi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koerad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koer&gt;Pontu&lt;/koer&gt;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koer&gt;Pauka&lt;/koer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/koerad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utorial p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Wikipedia  </a:t>
            </a:r>
            <a:r>
              <a:rPr b="0" lang="et-EE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.wikipedia.org/wiki/Resource_Description_Fram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W3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ttp://www.w3.org/TR/rdf-primer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 core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Just one table with three columns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Object id (called subject): ALWAYS UR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Property name (called predicate) : ALWAYS UR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Property value (called object):  TYPED (could be URI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Beer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y.com/beer/1223</a:t>
            </a: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eerlang.com/name</a:t>
            </a: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my.com/beer/11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my.com/beer/112</a:t>
            </a: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      http://beerlang.com/namestring “Nuia tume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12      http://beerlang.com/lang     “est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223    http://beerlang.com/name  “Nuia dark”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223    http://beerlang.com/price  (xsd:decimal )12.3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223    http://beerlang.com/producer http://my.com/beer/1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11      http://beerlang.com/address http://my.com/beer/11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11      http://beerlang.com/name   “Nuia õllevabrik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12      http://beerlang.com/city  “Nuia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Crucial nuances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Property value should also indicate type (int, string, id of objec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Object id-s and prop names should be unique (URI /URL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Property value can be a subject on another ro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 synt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Many different syntaxes for the same idea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ttp://en.wikipedia.org/wiki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ny_Benn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http://purl.org/dc/elements/1.1/title&gt; "Tony Benn" 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http://en.wikipedia.org/wiki/Tony_Benn&gt; &lt;http://purl.org/dc/elements/1.1/publisher&gt; "Wikipedia" 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http://en.wikipedia.org/wiki/Tony_Benn&gt;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rdf:type  ex:Pers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rdf:RDF xmlns:rdf="http://www.w3.org/1999/02/22-rdf-syntax-ns#"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xmlns:dc="http://purl.org/dc/elements/1.1/"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ex:Person rdf:about="http://en.wikipedia.org/wiki/Tony_Benn"&gt;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dc:title&gt;Tony Benn&lt;/dc:title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dc:publisher&gt;Wikipedia&lt;/dc:publisher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/ex:Person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/rdf:RDF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riped X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rdf:RDF xmlns:rdf="http://www.w3.org/1999/02/rdf-syntax-ns#"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xmlns="http://example.com/some-dlg-schema#"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Person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rdf:id=“http://my.com/122”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name&gt; John &lt;/name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livesWith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Person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rdf:id=“http://my.com/124”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father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Person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rdf:id=“http://my.com/12222”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ff0000"/>
                </a:solidFill>
                <a:latin typeface="Calibri"/>
              </a:rPr>
              <a:t>                      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name&gt;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red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/name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/Person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/father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/Person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/livesWith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/Person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/rdf:RDF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ry conversion of striped xm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Last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ry conversion of xml exampl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nvert earlier beer xml example to r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1st order logic and rdf con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nvert rdf to 1st order: sim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nvert 1st order to rdf: use some tricks, same as for relational databa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ssociation 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k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ive array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ive container, map, mapping, hash, dictionary, finite map, and in query-processing an index or index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ncept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get_value(array,key)  returns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set_value(array,key,value)  sets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imple standard arrays are a special ca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rray[10] returns value at pos/key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rray[10]=101   sets value at pos/key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ifferent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Perl </a:t>
            </a:r>
            <a:r>
              <a:rPr b="0" i="1" lang="et-EE" sz="3200" spc="-1" strike="noStrike">
                <a:solidFill>
                  <a:srgbClr val="000000"/>
                </a:solidFill>
                <a:latin typeface="Calibri"/>
              </a:rPr>
              <a:t>hashes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: hash-base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age{“John Smith”}=3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val{“zero”}=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val{“one”}=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attribs =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ID" =&gt; "joe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style" =&gt; "color:blue;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onClick" =&gt; "check();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ifferent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i="1" lang="et-EE" sz="3200" spc="-1" strike="noStrike">
                <a:solidFill>
                  <a:srgbClr val="000000"/>
                </a:solidFill>
                <a:latin typeface="Calibri"/>
              </a:rPr>
              <a:t>dictionaries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: hash-base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rr[1]=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rr[‘John’]=‘Black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ifferent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Javascript </a:t>
            </a:r>
            <a:r>
              <a:rPr b="0" i="1" lang="et-EE" sz="3200" spc="-1" strike="noStrike">
                <a:solidFill>
                  <a:srgbClr val="000000"/>
                </a:solidFill>
                <a:latin typeface="Calibri"/>
              </a:rPr>
              <a:t>arrays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: hash-base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 myCars=new Array(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Cars[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=“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Op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Cars[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=“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Fo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myCars[“recent”]=“Volv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ifferent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cheme </a:t>
            </a:r>
            <a:r>
              <a:rPr b="0" i="1" lang="et-EE" sz="3200" spc="-1" strike="noStrike">
                <a:solidFill>
                  <a:srgbClr val="000000"/>
                </a:solidFill>
                <a:latin typeface="Calibri"/>
              </a:rPr>
              <a:t>a-lists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: list-base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(1  .  3)  pair of two po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(1  (2 3) “aa”  (“b”))   sht for (1 .  ((2 . (3 . ()))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(set alist ‘((0  “Opel”) (“recent”  “volvo”)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(assoc alist “recent”) returns “volv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imple databas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500" spc="-1" strike="noStrike">
                <a:solidFill>
                  <a:srgbClr val="000000"/>
                </a:solidFill>
                <a:latin typeface="Calibri"/>
              </a:rPr>
              <a:t>Simplest database engines just implement fast associative array storage on a disk. Berkeley db python usage exampl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ort bsddb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 = bsddb.btopen('/tmp/spam.db', 'c'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or i in range(10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['%d'%i] = '%d'% (i*i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['3']       gives  '9'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.keys()  gives  ['0', '1', '2', '3', '4', '5', '6', '7', '8', '9']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.first()   gives  ('0', '0'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.next()  gives  ('1', '1'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.last()    gives ('9', '81'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ll databas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Database indexes used by all database systems are also associative array storage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22:23:34Z</dcterms:created>
  <dc:creator>tanel</dc:creator>
  <dc:description/>
  <dc:language>en-US</dc:language>
  <cp:lastModifiedBy>tanel</cp:lastModifiedBy>
  <dcterms:modified xsi:type="dcterms:W3CDTF">2009-03-13T07:35:53Z</dcterms:modified>
  <cp:revision>38</cp:revision>
  <dc:subject/>
  <dc:title>Property/value pair reps</dc:title>
</cp:coreProperties>
</file>